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1F5-4B22-4591-A663-76B0C8BA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F86-93B7-4A25-85C6-0615159A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068-97D5-4751-B83C-0A1CA7E4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D3C-5362-4EA6-B655-241F6A78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9374-A78E-4054-B6CD-7F47D12D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4CC0-DF81-43E5-8E29-A62617D3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B392-AADA-43EF-9C14-781AAB54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5291-A9A7-42A9-AE0C-45A9F4E9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3023-DEEA-4474-BB43-4C45ABAB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89AD-39F5-4E98-B185-0D682D11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08E2-E710-4621-9825-E661AFEC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6E0-287C-454D-BEB9-F150292D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E084-1663-4577-BF01-574E2DF0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341C-3C14-4417-BEF3-154AEBD9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D2F5-18FD-47CA-9BBC-8BDBE36C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E6AF-DD31-44D3-9FEE-6CF98FA1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A06D-C253-43C9-88C0-344630AF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4F6B9-9A87-4B4E-A5C9-EC9BA1B0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0B6B-458F-4E29-9DCE-0AF8E122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0E35E-AB4B-4C84-9630-D7DE4A27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90819-8D51-4FA0-AF33-EDF64B0F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D5D8-E44E-46FD-84DF-6A5EEE3D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DEE-0F53-4DCA-8B26-EC7ED0BF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72D00-D0D2-4082-B34B-C7323134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68505-33BB-4CDB-8A95-0CA7C921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7DCFF-155A-4F9F-94EC-0873A9ED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073D0-DFF0-4EC1-B371-A2B0867B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5B96-BCAA-42FC-B3F1-BEDA159B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52D54-65AE-4371-BC3E-D8D88582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BF735-B1B1-4CB3-BC90-4897CC77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DB689-2A3A-4C0B-9A65-FAB75461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650EE-F00C-4B2B-BDEB-C1EA01BD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4CC85-B178-43D1-87AA-5D54BBFB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7DA-6E18-460A-825E-A18C8588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9D937-713B-4D5F-A488-CFD2D6B5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01832-5115-4164-9861-12C80B3F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F1135-29E1-4162-A37C-1AE677E5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60C27-1124-440F-8C36-1CB922F0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21D98-5AEA-4CEE-86F6-DFBF7439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3073E-3DEA-4949-9391-B4930D75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2754A-C742-414C-9320-CD885228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812D9-517D-4719-9543-69FA3EEB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17D00-B446-47F5-BFAB-047FA707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BF796-2DED-474D-8942-8E701D30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485-A12E-4C94-B94F-A477A5D4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E8E9A-EFD3-48C4-A4E2-AD133096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B8C59-328B-421E-921B-198E75B8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1398F-933B-4675-AE57-F2279565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142D4-99D6-42F7-B0E5-CCF221B1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663B8-2492-4EEC-BC89-28EF1C52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51E03-D32A-4F2A-B9C5-D0885C48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B0FD5-AE47-4094-8978-55644066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10A29-2259-4471-9D40-0E2F9AAE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60D94-FE8F-4381-AF87-A039C43F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E19E7-9DBE-445F-874B-DF26352A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055-F5ED-4821-90AC-93A1F19A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807BE-6F8E-418D-9D53-230BF481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67FAA-1631-4F23-9469-5C4DE2A6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854CB-B4D8-4475-B05E-F2FBFCA8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F6EF8-5461-4B8C-87C9-C9F2946A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4E192-4742-48DB-8D38-ADD940CC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2E227-F39A-480E-A42D-8BFA26E9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4820D-2CCC-4450-97D1-36634B80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60AA3-B152-4381-AEFC-58E4D88A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B2B58-D9D4-4585-8F51-4E8AD540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51EAB-8E22-4352-B162-1C7FCB76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AC0-48EF-4088-8676-BD6417CD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B5673-41CD-4B01-B017-6F830B51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FB9D6-61A6-4071-8BE6-0948FC09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A96F3-1329-4BB1-A141-85EEC350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E2A66-BFD8-4318-913C-DC5B11A4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46574-816F-417F-AB14-5D9E3BAE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8EDB5-A7FD-4849-8A61-BA22C0F7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4CDFE-A2E0-49E2-890C-C805D9F7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E77BD-6AD4-4A59-9FF6-F14DC0D2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3B69F-E0F8-471B-855F-8526C441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9AE84-078A-491E-9047-9B33FDBC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072-2CAE-4355-9304-E496185B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B9D7E-F587-4827-B161-A5160461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03C62-B5AA-433C-B161-A9A39957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F3C74-9A8A-4D0E-87AD-39B7FBD0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56443-8A52-46DB-86DD-0550E0D5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A988F-3350-4479-8EE9-106CC8F3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737-D369-4456-824D-73A047E4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4841-DF1B-4DE5-B99F-0B13B4DE3E0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AEEA-916D-4875-B57F-76EADE120E9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B1AD-B63A-41E7-9C75-F2D910BF28C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CDF6-4012-49AC-8101-52F8EEC844E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8D1C-46B6-4BBB-83E5-2C3999DD1E9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7341-D094-4A12-AB9A-1E9D920D2FB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EC3E-ABFD-49FB-A900-D2959DADD25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6blafalcone.wikispaces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nspired6bwriters.wikispaces.com/" TargetMode="External"/><Relationship Id="rId2" Type="http://schemas.openxmlformats.org/officeDocument/2006/relationships/hyperlink" Target="http://www.lpsk12.org/" TargetMode="External"/><Relationship Id="rId3" Type="http://schemas.openxmlformats.org/officeDocument/2006/relationships/hyperlink" Target="http://www.lpsk12.org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6blafalc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32d2e"/>
                </a:solidFill>
                <a:latin typeface="Gill Sans MT"/>
              </a:rPr>
              <a:t>6</a:t>
            </a:r>
            <a:r>
              <a:rPr b="0" lang="en-US" sz="4300" spc="-1" strike="noStrike" baseline="30000">
                <a:solidFill>
                  <a:srgbClr val="c32d2e"/>
                </a:solidFill>
                <a:latin typeface="Gill Sans MT"/>
              </a:rPr>
              <a:t>th</a:t>
            </a:r>
            <a:r>
              <a:rPr b="0" lang="en-US" sz="4300" spc="-1" strike="noStrike">
                <a:solidFill>
                  <a:srgbClr val="c32d2e"/>
                </a:solidFill>
                <a:latin typeface="Gill Sans MT"/>
              </a:rPr>
              <a:t> Grade Language Art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2</a:t>
            </a:r>
            <a:r>
              <a:rPr b="1" lang="en-US" sz="3900" spc="-1" strike="noStrike" baseline="30000">
                <a:solidFill>
                  <a:srgbClr val="572314"/>
                </a:solidFill>
                <a:latin typeface="Gill Sans MT"/>
              </a:rPr>
              <a:t>nd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 Semester – Reading Outcomes of Understanding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Gill Sans MT"/>
              </a:rPr>
              <a:t>INQUIRY QUESTION: What does reading do for me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sight for Writ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mpath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nfidenc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nse of Aesthetic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sire to Advocat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crease in Cognitive Stamin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ear Recollection and Intent to Reappl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thers..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ass  - Workshop Model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ach class period will begin with a clas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read-aloud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hich serves as a time to model reading, thinking, and comprehension behaviors and strategies which students will then practice and apply to their self-selected novels. Following the class read-aloud, we engage in alternately a reading or writing mini-lesson which provides an opportunity for direct teaching and practice of a skill or concep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orkshop – Mentor Tex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ing a reading and writing workshop model, our class instruction will include daily mentor text which can include, short stories,  Jr. Great Books, news articles, blog posts, magazines,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novel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nd a variety of textual excerpts that will serve as… models for author’s craft and cont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ading Dia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itionally each student will be completing a reading log of books of their choice which will require a minimum of  20 minutes a day outside of school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quarter: literary gen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(minimum - 5 different genre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quarter:  award winne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(minimum - 5 different award winners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eractive Noteboo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94920" y="17521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ach student will maintain their Language Arts INB with class notes and resource material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spired Reading and Writ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entury students will be publishing their works, reading, writing, researching, presenting and conversing about literature using our 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class wiki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LPS Google Doc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lpsk12.or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cabulary/Spelling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In addition to specific content vocabulary, we will focus on the origin, use of and application of 5 prefixes, suffixes or roots per week. 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ccelerated Language Arts will also use the Sadlier-Oxford Level B Spelling/Vocabulary Workshop – alternating: Week 1 – Students are responsible for the spelling of the 20 vocabulary words in the unit. Week 2 – Students are responsible for the vocabulary exercises reinforcing the definition, pronunciation, grammatically correct usage, synonyms, and antonyms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mmon Assessme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FOCUS WRITING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Quarter: Show Not Tell Descriptive Writing - Testing Window 9/20 – 9/29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Quarter: Persuasive Writing – Testing Window 12/06 – 12/10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Quarter: How - To Technical Writing – Testing Window TB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Quarter: Poetry Techniques – Testing Window TB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LA FOCUS READING COMPREHENSION GOALS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25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Semester – Thinking Strategies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Gill Sans MT"/>
              </a:rPr>
              <a:t>INQUIRY QUESTION: How does my thinking help me to understand?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Metacognitio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chema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Questioning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Drawing Inferences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Determining Importanc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ensory Imagery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ynthesizing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Problem Solving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0:19:18Z</dcterms:created>
  <dc:creator>ITSUser</dc:creator>
  <dc:description/>
  <dc:language>en-US</dc:language>
  <cp:lastModifiedBy>ITSUser</cp:lastModifiedBy>
  <dcterms:modified xsi:type="dcterms:W3CDTF">2010-10-19T15:14:02Z</dcterms:modified>
  <cp:revision>6</cp:revision>
  <dc:subject/>
  <dc:title>6th Grade Language Arts </dc:title>
</cp:coreProperties>
</file>